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13.png" ContentType="image/png"/>
  <Override PartName="/ppt/media/image7.jpeg" ContentType="image/jpeg"/>
  <Override PartName="/ppt/media/image9.png" ContentType="image/pn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4FD9-A175-4714-8F73-87AD5DFE0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7218-FB1E-426D-A7D8-4CC742B8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1085-0887-41B5-903A-06EFA94C4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37AC-7FBB-4045-8200-F3BD81510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3B66-0EB7-44AE-86F6-0ACE1224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C10B-8A7B-451C-9D75-04AD46A9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1FBC-2859-4DCD-9E32-1E3683D6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2833-9A6A-4A25-A812-4B807DFC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12F1-E6D4-4F0C-84A9-A60A8CFE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A7C8-D0AE-4E6F-8B96-4F039BDE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A7B1-FB54-42F9-9CC3-A5D600B5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210D-6E6C-4F44-ADA7-F6852278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52388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57400" y="6527520"/>
            <a:ext cx="41911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</a:t>
            </a:r>
            <a:fld id="{03CB8846-9DD1-4066-A038-62DD0B53D7BE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vlbi.org/evlbi/evlbi.html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8600" y="3156120"/>
            <a:ext cx="5029200" cy="2739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876920" y="1371600"/>
            <a:ext cx="4114800" cy="2246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705720" y="3700440"/>
            <a:ext cx="1828800" cy="1557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9246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argeting transient phenomena with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-VLBI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6840" y="1828440"/>
            <a:ext cx="3429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Zsolt Paragi (JIVE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for the EXPReS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1981080"/>
            <a:ext cx="17017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11640" y="577800"/>
            <a:ext cx="790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GRB high frequency follow-up (&gt;5 GHz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965240"/>
            <a:ext cx="76168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ence goal: is fireball model corre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se time: within a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: 1-2 week, every 3-4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gger: Swift, GLAST, +radio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s: IRAM, Ryle, VLA, MER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LBI resources needed: min. 512 Mbps, 22 GHz, Ef! (+GBT,Usuda64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VLBI benefit: signif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sts, Pulses and Flickering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4CDD-C470-4C92-8CEE-DEF5CEE4402C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June 12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12000" y="577800"/>
            <a:ext cx="80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GRB high frequency follow-up (1-5 GHz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965240"/>
            <a:ext cx="76168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ence goal: afterglow evolution at late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se time: 3-4 week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: order of a year, every 2-4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gger: Swift, GLAST, +radio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s: WSRT, VLA, MER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LBI resources needed: min. 512 Mbps, 1.6-5 GHz, Ef+Wb+LT+Chin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VLBI benefit: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sts, Pulses and Flickering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894C-F5AC-4487-AFF0-CED0FFE530C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June 12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13440" y="577800"/>
            <a:ext cx="67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GLAST gamma flares from blaza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1965240"/>
            <a:ext cx="76168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ence goal: jet models, high energy emission IC/SSC …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se time: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: years, half yea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gger: G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s: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LBI resources needed: min. 256 Mbps, 0.6-22 G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VLBI benefit: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sts, Pulses and Flickering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A0EC-D686-4661-B67F-0882519489BF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June 12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12360" y="577800"/>
            <a:ext cx="702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GLAST gamma flares from LLAG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1965240"/>
            <a:ext cx="76168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ence goal: jet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se time: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: years, half  yea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gger: G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s: VLA, MER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LBI resources needed: 512 Mbps, 1.6-5 GHz, Ef+Wb+LT+Chin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VLBI benefit: little – search for calib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sts, Pulses and Flickering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97B1-335E-494E-838C-1378E93E08D6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June 12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12000" y="577800"/>
            <a:ext cx="58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N Type Ib/c “off axis” GRB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1965240"/>
            <a:ext cx="76168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ence goal: SN/GRB connection; is fireball model corre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se time: 1-2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: months, month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gger: optical, +radio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s: optical or radio (e.g. WS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LBI resources needed: min. 512 Mbps, 1.6/5 GHz, Ef+WB+LT+Chin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VLBI benefit: 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sts, Pulses and Flickering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FA92-528E-483F-AD27-F8173C725C39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June 12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12720" y="577800"/>
            <a:ext cx="45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Early evolution of S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965240"/>
            <a:ext cx="76168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ence goal: early SN evolution, testing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se time: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: 2-3 weeks, every 3-4 day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gger: optical, +radio ID (e.g. WS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s: IRAM, Ryle, VLA, MER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LBI resources needed: min. 512 Mbps,  5/22 GHz, Ef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VLBI benefit: signif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sts, Pulses and Flickering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911E-0106-4857-A0C6-12D1C4DFD68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June 12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10920" y="577800"/>
            <a:ext cx="752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Known transients flaring (uQSO, SGR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965240"/>
            <a:ext cx="76168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ence goal: jet prod mechanism; jets from non-NH/NS syste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se time: within a day, or as soon a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: 1 week, every 1-3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gger: RATAN, Ryle… -may be triggered from other waveband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s: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LBI resources needed: min. 256 Mbps, 5 GHz (+S/X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VLBI benefit: signif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sts, Pulses and Flickering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2C3D-C074-4A73-9409-78F0077B9213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June 12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3440" y="577800"/>
            <a:ext cx="63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Known transients, special trigg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1965240"/>
            <a:ext cx="76168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ence goal: various, e.g. jet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se time: within a da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: 1 week, every 1-3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gger: Wb, or e-VLB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s: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LBI resources needed: 256/512 Mbps, 1.6/5 GHz, Ef+Wb+LT+Ar; pol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VLBI benefit: only Wb+e-EVN can do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sts, Pulses and Flickering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3395-6E60-4782-A8A8-C968F7DEE964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June 12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13800" y="577800"/>
            <a:ext cx="693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Unknown Galactic transients flar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965240"/>
            <a:ext cx="76168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ence goal: nature of  new trans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se time: within a day, if possible; sometimes evolve on longer timescales (depending on type of sour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: depends on what we see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gger: RXTE, Swift, GLAST, INTEGRAL+radio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s: Swift and GLAST ~ok; WSRT prior  to VLBI  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LBI resources needed: 512 Mbps, 1.6/5 GHz, Ef+Wb+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VLBI benefit: only WB+e-EVN can do this very qu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sts, Pulses and Flickering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83B9-CC5B-4520-BEFD-C368A6E17467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June 12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16320" y="577800"/>
            <a:ext cx="743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Extragalactic (stellar) transients flar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965240"/>
            <a:ext cx="76168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ence goal: accurate location of transient?- will not be resolv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se time: within a day, or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: yes, but probably not with VLB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gger: RXTE, Swift, GLAST, +WSRT quick ch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s: Swift, GLAST ~ok/ WS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LBI resources needed: min. 512 Mbps, 5 GHz, Ef+WB+LT (+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VLBI benefit: only WB+e-EVN can do this when quick position update is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sts, Pulses and Flickering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0EF5-D1DC-49B5-81E4-04CC19432C30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June 12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65040" y="417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1880" y="533520"/>
            <a:ext cx="779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hat does e-VLBI mean to the observ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5040" y="1371600"/>
            <a:ext cx="8859600" cy="46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pid response, ideal for observing trans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pid feedback, you know if it works, you know what you obser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s quick decision about more observations (VLBI or ot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if real-time correlation is not strictly justified, prompt resul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n timescales similar to instruments in other wavebands) is 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active to users! – why not let them enjoy these benefi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access, easy use – high level of PI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LBI accessible for a wider community – but we have to promo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 new types of VLBI research possib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sts, Pulses and Flickering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D0D9-FDE0-4E0C-AD93-83BA717911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June 12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14160" y="577800"/>
            <a:ext cx="604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Other Galactic variable sourc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1965240"/>
            <a:ext cx="761688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ence goal: stellar flare localization and 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se time: within hours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: single epoch, full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gger: Wb/e-VLB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s: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LBI resources needed: 256-512 Mbps, 5 GHz, Ef+Wb+Chinese, polca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VLBI benefit: only Wb-e-EVN can do this (Wb observes a sample of sources =&gt; e-EVN a selected, active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sts, Pulses and Flickering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ECC8-C16D-4235-953B-501B16B2CA3B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June 12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11280" y="577800"/>
            <a:ext cx="36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LOFAR transi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1965240"/>
            <a:ext cx="76168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ence goal: nature if these trans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se time: hour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: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gger: LOF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s: LOFAR +quick WS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LBI resources needed: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VLBI benefit: only WB+e-EVN can get quick coord.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sts, Pulses and Flickering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BEC0-26BD-4FB9-874F-E1FDD5C0DEB9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June 12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13800" y="577800"/>
            <a:ext cx="709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XRB low/hard state jet proper mo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(a case for “special trigger” ob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2193840"/>
            <a:ext cx="76168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ence goal: jet production/acceleration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se time: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: 2-3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gger: e-VLB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s: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LBI resources needed: Ar+Ef+Wb+LT, 1.6/5 GHz, min. 512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VLBI benefit: only Ar+e-EVN can do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sts, Pulses and Flickering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F3FE-EBAC-4311-8484-D2B225142C48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June 12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898000" y="22860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e-VLBI Summa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5000" y="866880"/>
            <a:ext cx="7616880" cy="61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of all, it works! Significantly reduces science turnaround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VLBI is easy and practical for users with little or no experience with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LBI. Data analysis pipeline does most of the work! Additional 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is available at J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Westerbork + e-EV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/will be a unique instrument: calibration, WSRT alert for  e-VLBI, position information on new transients; e-MERLIN may play a similar role late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developments are mainly driven by technical/logistica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considerations, but there is the possibility of doing new type of VLBI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science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when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daptive schedul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becoming a re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al for Galactic transient observations: classic microquasars, magnetars,  X-ray flare transients, pulsars?, dMe stellar “super-flares” (talk by Rachel Osten)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PLEASE CONTRIBUTE TO THE SCIENCE CAS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sts, Pulses and Flickering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95BB-05A3-4BCE-AA9E-38B962A131F8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June 12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78000" y="1111320"/>
            <a:ext cx="8040600" cy="4527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549760" y="3429000"/>
            <a:ext cx="359424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Times New Roman"/>
              </a:rPr>
              <a:t>Test cases: black holes in outbu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33cc"/>
                </a:solidFill>
                <a:latin typeface="Times New Roman"/>
              </a:rPr>
              <a:t>Data processing took 1-2 weeks with first images </a:t>
            </a:r>
            <a:r>
              <a:rPr b="1" lang="en-GB" sz="2000" spc="-1" strike="noStrike" u="sng">
                <a:solidFill>
                  <a:srgbClr val="0033cc"/>
                </a:solidFill>
                <a:uFillTx/>
                <a:latin typeface="Times New Roman"/>
              </a:rPr>
              <a:t>within 48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33cc"/>
                </a:solidFill>
                <a:latin typeface="Times New Roman"/>
              </a:rPr>
              <a:t>Publication took less than 2 month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1520" y="228600"/>
            <a:ext cx="705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VLBI / e-VLBI observation time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sts, Pulses and Flickering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1101-F1B2-47CD-A0CA-08B6D34BE51D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June 12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68640" y="196920"/>
            <a:ext cx="744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hy do we need e-VLBI: ToO 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920" y="1030320"/>
            <a:ext cx="5613120" cy="5294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347000" y="1104840"/>
            <a:ext cx="41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example: the huge flare of SGR1806-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04720" y="1600200"/>
            <a:ext cx="4566960" cy="40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GR1806-20 is a soft gamma-ray repeate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utron star with very strong magnetic field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ne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ed the greatest explosion witness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umans in our Galaxy, on 27 December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ations with various instruments,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LBI (with the VLBA arr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ld not image reliably because of lac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n calibrator in the vicinity of the targe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Is there a way to do these projects m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efficiently? Is there a way to ge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data and analyze them quickly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72040" y="5805360"/>
            <a:ext cx="36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ender et al. (2005), MNRAS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367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sts, Pulses and Flickering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E9B2-7797-436D-9F15-57EA5658611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June 12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5639040" cy="4510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6920" y="152280"/>
            <a:ext cx="769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Another example: SS433 during outbur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525780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Compact jet quenched during outbursts in SS433, just like in other XRBs. Can we observe these systems in good time to follow this process right from the beginn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7280" y="2085840"/>
            <a:ext cx="184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LBA, 5 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aragi et al.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ew A.R. 43, 5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sts, Pulses and Flickering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57D7-2101-4760-8CE4-DF2BB3F56621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June 12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-VLBI: data rate improvement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1365120"/>
            <a:ext cx="4419720" cy="3359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267080" y="2898720"/>
            <a:ext cx="4419720" cy="304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sts, Pulses and Flickering..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8DF8-8AB2-4253-B6A0-BB1360C3466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June 12-15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1520" y="304920"/>
            <a:ext cx="59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e-VLBI activities in 2006/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6920" y="1066680"/>
            <a:ext cx="838260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r e-VLBI test observations in every six week (on averag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h time is pre-allocated for science observation during 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VLBI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ing proposals submitted up to two weeks befor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ertised date (CHANGED!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ence operations at 1.6 and 5GHz at 128/256 Mb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m, Jb2, Mc, On, Tr, W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22 GHz test with Metsahovi in March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inges to all connected telescopes at 512 Mbp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recently to Tor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info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evlbi.org/evlbi/evlbi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143000" y="914400"/>
            <a:ext cx="6095880" cy="4876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776680" y="1447920"/>
            <a:ext cx="32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-EVN, first 512 Mbps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sts, Pulses and Flickering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BFA7-CB39-41AE-8DD7-1DD6E63177CE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June 12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69000" y="349200"/>
            <a:ext cx="57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cience projects in 2006/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5600" y="1371600"/>
            <a:ext cx="7632720" cy="41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g X-3, 20 Apr/18 May, 128 Mbps, Tudose et 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S1915+105, 20 Apr, 128 Mbps, Rushton et 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SI +61.303, 256 Mbps, 26 Oct, Perez-Torres et 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l, 26 Oct/14 Dec, 256 Mbps, Paragi et al. 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ee pos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ibrators near M81, 14 Dec, 256 Mbps, Brunthaler et 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L microquasar candidates, 14 Dec, Pandey et al. 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ee pos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 header” run, 15 XRBs, 29 Jan, Rushton &amp; Spencer 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ee pos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ibrators, 21 Feb, 256 Mbps, Tudose et 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2020+3631 microquasar candidate, 28 Mar, 256 Mbps, Ma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t 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sts, Pulses and Flickering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0094-1CEC-4539-9346-D67952BD3F23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June 12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16960" y="349200"/>
            <a:ext cx="834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esterbork </a:t>
            </a:r>
            <a:r>
              <a:rPr b="0" lang="en-US" sz="36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 e-EVN as a unique instru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25640" y="1219320"/>
            <a:ext cx="720396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sterbork Synthesis Array data may help in calibration (amplitude, linear and circular polarization; linear feeds!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help to confirm detection/non-detection of weak targe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ld be used as a ‘built-in’ alert instrument for the e-EV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b can help improving coordinates of new transients… (note that there are cases when we cannot afford time to get this information from an external instrument, e.g. the V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daptive schedul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is could be immediately used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VLBI array; with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daptive scheduling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b could quickly trigger observations of ~hours stellar f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to mention the additional information on the very large-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e (which we normally waste when we do not reduce Wb   data along with the EV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sts, Pulses and Flickering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ECC8-4D77-4657-A576-8F83127B4073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June 12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Kristine Yun</dc:creator>
  <dc:description/>
  <dc:language>en-US</dc:language>
  <cp:lastModifiedBy>Guest</cp:lastModifiedBy>
  <dcterms:modified xsi:type="dcterms:W3CDTF">2002-08-22T21:57:52Z</dcterms:modified>
  <cp:revision>168</cp:revision>
  <dc:subject/>
  <dc:title>Slide 1</dc:title>
</cp:coreProperties>
</file>